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B532-B4CC-4D89-931B-18596551E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D620-973B-4B2B-9D6D-6D3F73B48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6275-29C2-4CAD-8366-642997DE4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34F6-2D2F-4B38-98FC-2E2681CE5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A1B8C-7B08-4375-ADB6-427F53862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B46DA-6C0B-4CA1-85FD-DD84777CA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4206E-4270-4D7B-9F20-0FAAF4F44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23F66-4971-4229-872A-4C820E65A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3A7F5-2D62-4D80-A585-E6F8CA89C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3EA5C-132F-4862-9B64-E2CF8F7B8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FFFB3-57DE-4231-B73C-F8BDAED41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55A0-1957-4003-8EF0-C211A69FA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4F75E-FA5D-4526-8635-549E64F08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61863-62EA-4DF1-998D-FE7CCA49C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6CD94-2AEF-4B78-A1CD-E5F93EC00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AA7FB-8248-4A66-9005-E98641362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FE0F1-8C02-42A6-B5B0-72B192F1C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B2C645-16E9-45C4-9006-26721498C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D81B1C-3BBC-44F9-B011-031DCCD8E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41C733-86E2-4AA4-9D5F-40EC036D5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52B651-D7A5-4F7A-A188-94AD1551C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B3B307-39DF-4E1F-8232-654A4EBFE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D015-E35B-450E-9E34-57B2161D1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AC2071-4219-49B8-AAC5-852ECBC63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D6106C-EE9E-4290-9DA3-46FC0A6ED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D7DA3C-8CCA-4942-A04E-C17418348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71AC73-FA67-46F7-874C-7849CC073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0739A2-296E-4844-B20F-C207A3307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BD33DF-7DC3-410D-9FD6-931D124BC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B24FAF-CCC8-480F-9F11-1A74D02D0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EA2056-C98D-4956-B2C2-3BEF183C0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B5A4AF-AEC7-444E-A543-F075A3224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EB130F-0F2C-444C-AA3B-193CE8FFC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4429-31B6-419F-B051-C1E775B3E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33141F-58ED-4CC5-8105-3EC1527DF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949CC3-4B0F-4FED-9678-B3F57C511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EAB177-DE65-4027-9F11-CA842440C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123F21-5E60-45D2-A087-24C68DCFA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C77475-DF4F-470C-A055-4AD33EFF7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607B8A-DAFB-4839-A08E-7CCF27319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A02DE6-77B9-4EAA-9267-BB2BB767C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43B35C-FF6F-4345-B934-8B98F7E33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7EE16A-124E-421D-B07F-FCD051306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F17006-6248-42C4-82A1-398E0A0BA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126C-4E94-4424-9FBF-1F2EED506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7BC9E2-C29C-4794-8F1B-CB34CA3EC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C1AAFF-0D0C-48A6-BDB9-659EDFB5E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D2A03C-CAC0-4A8D-B1FB-3CCFF4D6E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E09896-1E7E-43DD-BAE7-8D65409ED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C48E06-1DC8-4D78-94BF-4912B65D0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ED281D-A289-48C0-AC41-D4CB103C8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9E6B99-E8EB-470E-902D-BFCDAA5BA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F6B727-9190-41E1-805E-B494FCE6C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BDD479-0AC3-4F2B-A293-90710CD77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C0C099-9434-4143-9C38-5111166F5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B365-5718-4AA1-8C6E-0765A2B25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7BE55B-25DB-432C-AA88-3417AF38E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223F-6442-4640-9332-54C893B3A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283A-7272-42D1-A4A6-4C14FC2EC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7E47-0E72-4211-8C8A-694E484EA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6C74C-8B5B-4449-8ADB-5E518AA9CF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B57BF-FFF4-47F6-A72B-528C8805A3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0E3A5-3A67-46AC-A6D6-35E1FF6B93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:3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F5C64-1E08-428E-B25E-00DAB043C4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12BE8-3407-4E6F-9022-315AD69509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urlz MT"/>
              </a:rPr>
              <a:t>Economia </a:t>
            </a:r>
            <a:r>
              <a:rPr b="0" lang="en-US" sz="5400" spc="-1" strike="noStrike">
                <a:solidFill>
                  <a:srgbClr val="99cc00"/>
                </a:solidFill>
                <a:latin typeface="Curlz MT"/>
              </a:rPr>
              <a:t>verde</a:t>
            </a:r>
            <a:r>
              <a:rPr b="0" lang="en-US" sz="5400" spc="-1" strike="noStrike">
                <a:solidFill>
                  <a:srgbClr val="ffffff"/>
                </a:solidFill>
                <a:latin typeface="Curlz MT"/>
              </a:rPr>
              <a:t>: </a:t>
            </a: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Curlz MT"/>
              </a:rPr>
              <a:t>Ai participat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13320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00"/>
                </a:solidFill>
                <a:latin typeface="Curlz MT"/>
              </a:rPr>
              <a:t>Combaterea poluar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urlz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urlz MT"/>
              </a:rPr>
              <a:t>Prezentare realizata de elev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urlz MT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urlz MT"/>
              </a:rPr>
              <a:t>Nita Roxana Mar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urlz MT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urlz MT"/>
              </a:rPr>
              <a:t>Clasa: a X-a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urlz MT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urlz MT"/>
              </a:rPr>
              <a:t>Liceul: Ion Heliade Radulesc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Forte"/>
              </a:rPr>
              <a:t>Metode de combatere a poluarii aerulu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ambria"/>
              </a:rPr>
              <a:t>In combaterea poluarii aerului se porneste de la principiul ca “maximul se poate realiza la sursa “. Aceasta in sensul ca reducerea evacuarilor de poluanti si a pierderilor de la sursa sunt in acelasi timp masuri preventive, de limitare a poluarii aerului si masuri care vizeaza valorificarea integrala a materiilor prime. Retinerea substantelor reziduale pentru valorificarea complexa a materiei prime este si mult mai usor de realizat decat dupa ce acestea s-au ejectat in atmosfera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61128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mbria"/>
              </a:rPr>
              <a:t>Pentru a realiza o productie nepoluanta exista mai multe posibilitati: alegerea sau pregatirea unur materii prime fara impuritati , spalarea combustibililor, ermetizarea instalatiilor in care se desfasoara procese de productie generatoare de pulberi si gaze, dirijarea pulberilor si gazelor spre instalatiile de epurare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Forte"/>
              </a:rPr>
              <a:t>Masurile pentru protectia aerului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mbria"/>
              </a:rPr>
              <a:t>exploatarea rationala a instalatiilor tehnologice selectionate pentru o anumita productie ca fiind ca fiind cele mai putin poluante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mbria"/>
              </a:rPr>
              <a:t>recuperarea si valorificarea substantelor reziduale utilizabile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mbria"/>
              </a:rPr>
              <a:t>amplasarea surselor de poluare bazata pe un studiu stiintific al consecintelor pe care le are situarea intr-o anumita ambianta geoclimatica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mbria"/>
              </a:rPr>
              <a:t>adoptarea de sisteme si mijloace de transport cat mai putin poluant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orte"/>
              </a:rPr>
              <a:t>Poluare ape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3789000"/>
            <a:ext cx="822960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cc33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cc33"/>
                </a:solidFill>
                <a:latin typeface="Cambria"/>
              </a:rPr>
              <a:t>Mentinerea puritatii apei in cadrul natural inseamna mentinerea continutului de saruri si gaze, de organisme si microorganisme specifice unei ape naturale nealterat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mbria"/>
              </a:rPr>
              <a:t>Poluantii aflati in ape sub forma de suspensii sau solutii multicomponente se pot incadra in urmatorele categorii mai importan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mbria"/>
              </a:rPr>
              <a:t>- substante organice, reziduri biologic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mbria"/>
              </a:rPr>
              <a:t>- substante anorganic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mbria"/>
              </a:rPr>
              <a:t>- substante radioactiv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mbria"/>
              </a:rPr>
              <a:t>- produse petrolier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mbria"/>
              </a:rPr>
              <a:t>- microorganisme patogen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mbria"/>
              </a:rPr>
              <a:t>- ape fierbinti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orte"/>
              </a:rPr>
              <a:t>Combaterea poluarii ape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990000"/>
                </a:solidFill>
                <a:latin typeface="Cambria"/>
              </a:rPr>
              <a:t>Starea de poluare a apelor poate fi controlata si redus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990000"/>
                </a:solidFill>
                <a:latin typeface="Cambria"/>
              </a:rPr>
              <a:t>Primul grup de procedee se caracterizeaza printr-o “maniera de conducere preventiva” si include toate metodele care urmaresc limitarea evacuarii de reziduri in ap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990000"/>
                </a:solidFill>
                <a:latin typeface="Cambria"/>
              </a:rPr>
              <a:t>Inca din faza de proiectare a instalatiilor industriale, de transport, edilitare etc. , trebuie adoptata o conceptie care corespunde unei orientari diametral opuse fata de cea veche, caracterizabila lapidar prin ideea “apa spala tot”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39528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be0e3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bbe0e3"/>
                </a:solidFill>
                <a:latin typeface="Cambria"/>
              </a:rPr>
              <a:t>In al doilea grup de procedee se incadreaza diferitele metode de epurare ale apelor uzate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be0e3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bbe0e3"/>
                </a:solidFill>
                <a:latin typeface="Cambria"/>
              </a:rPr>
              <a:t>Apele uzate trebuie sa fie supuse unor tratamente prin care sa se inlature incarcarea lor cu poluanti pana la o limi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539640" y="620640"/>
            <a:ext cx="4680000" cy="54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99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0099"/>
                </a:solidFill>
                <a:latin typeface="Cambria"/>
              </a:rPr>
              <a:t>Dar indiferent de felul poluarii, si de locul unde o regasim (aer, apa…) este mult mai usor s-o prevenim decat s-o combatem. Si asta depinde numai de noi, oamenii !!!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9T07:20:52Z</dcterms:created>
  <dc:creator>roxy</dc:creator>
  <dc:description/>
  <dc:language>en-US</dc:language>
  <cp:lastModifiedBy>roxy</cp:lastModifiedBy>
  <dcterms:modified xsi:type="dcterms:W3CDTF">2012-05-19T08:48:46Z</dcterms:modified>
  <cp:revision>2</cp:revision>
  <dc:subject/>
  <dc:title>Slide 1</dc:title>
</cp:coreProperties>
</file>